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B7A-B560-432F-B931-AF9AF8BB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A8B-BE6D-4F45-B5A2-AD8F4075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80B-9159-41E6-93C9-7D8DA494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B4B-6C8F-422B-8F7C-D3F0F3CF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A73F-424E-4540-9571-60F17002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BD5D-1752-4A40-9605-A7E896D5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AFDD-0626-4DBF-AD51-03612AD2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7A61-D22B-4183-8C7D-35D146D0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302A-9E5D-4887-B504-F0BA6A5D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9549-0BBE-43EC-B6F3-C3A7A105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9AB3-98CD-4B18-A6DE-C4C9C6D2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E06-A12E-4E9C-8F19-185D52CA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0724-9A17-4A0C-9F1C-96C7F7DB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EE6A-06CC-4A39-A43F-18B927BF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0FA9-1E13-4C23-A67F-EE1B473B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72D3-7D86-4D95-B742-F42E32FC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4383-82B1-4F35-AD98-1558839E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F07-383B-4ECC-BDF1-76AD7ABA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3C5-68E4-4E2B-BC03-7259C247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309-32E5-42F1-9B9D-9012C026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819-0251-46D9-8B0D-54658A66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D7F-4B10-42B8-B173-073CDB4E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0D8-C9FB-4272-B5A2-CA99B91C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A53-3140-4483-A9D4-E23348D3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473A-80BA-472F-8036-B6888E990DA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DADD-3C9F-4182-98C7-731F11AA95B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English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Oct. 7, 2009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rk on test/group 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ve an AR book by Fri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Your odds of appering on the Tonight Show are one in 490,000 your odds of being killed in a plane crash are one in 11 million your odds of winning the reader’s digest sweepstakes are one in two hundred thirteen millio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ip:bridge:: ________:cockpi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loquent:words:: nimble:_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rk on test/group 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14:05Z</dcterms:created>
  <dc:creator>VMS</dc:creator>
  <dc:description/>
  <dc:language>en-US</dc:language>
  <cp:lastModifiedBy>VMS</cp:lastModifiedBy>
  <dcterms:modified xsi:type="dcterms:W3CDTF">2009-10-07T19:34:17Z</dcterms:modified>
  <cp:revision>2</cp:revision>
  <dc:subject/>
  <dc:title>English</dc:title>
</cp:coreProperties>
</file>